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A85-0725-4ADE-AC4D-B838E052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55F-78EB-4307-84F5-80FE3DF9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B52-C21E-46AD-9100-8D38E5F6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DD5-FA3F-48AC-AE66-4AEA6C29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C36-2B97-4FB1-966D-D155DFE0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C24-A2F4-4207-9957-E7521009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BF5-D03E-4700-A4F1-B7ECCA0C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B6F-2D4E-45A2-8709-44898C8E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148-8831-4CCA-BE8B-A4DD288B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5FE-BAA2-4A11-9EF2-35C8BFFB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DB8-1B66-4CE1-A7FA-4CD9A44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350-98E5-456E-B64D-F12F8A1F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65E7-7102-450D-860C-1F30786CD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mailto:oldtoyd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ТОЙДЕН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71468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ТОЙДЕНСКОЕ СЕЛЬСКОЕ ПОСЕЛЕНИЕ, 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Старотойден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Старотойденского сельского поселения в 2022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00120" y="1357200"/>
          <a:ext cx="6096240" cy="3187800"/>
        </p:xfrm>
        <a:graphic>
          <a:graphicData uri="http://schemas.openxmlformats.org/drawingml/2006/table">
            <a:tbl>
              <a:tblPr/>
              <a:tblGrid>
                <a:gridCol w="538200"/>
                <a:gridCol w="2841480"/>
                <a:gridCol w="1065240"/>
                <a:gridCol w="1032120"/>
                <a:gridCol w="619200"/>
              </a:tblGrid>
              <a:tr h="50328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12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4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3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1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Старотойденского сельского поселения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7" descr=""/>
          <p:cNvPicPr/>
          <p:nvPr/>
        </p:nvPicPr>
        <p:blipFill>
          <a:blip r:embed="rId2"/>
          <a:stretch/>
        </p:blipFill>
        <p:spPr>
          <a:xfrm>
            <a:off x="420840" y="1279440"/>
            <a:ext cx="84978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9" descr=""/>
          <p:cNvPicPr/>
          <p:nvPr/>
        </p:nvPicPr>
        <p:blipFill>
          <a:blip r:embed="rId3"/>
          <a:stretch/>
        </p:blipFill>
        <p:spPr>
          <a:xfrm>
            <a:off x="1066680" y="3780000"/>
            <a:ext cx="71136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Старотойденского сельского поселения за 2022 год профицитный (доходы превысили расходы на 2640,1 тыс.руб.)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2г. составило – 85,7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Старотойден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РАСПОПОВ ВЛАДИМИР АЛЕКС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Воронежская область, Аннинский район, село Старая Тойда, ул. Октябрьская, дом 13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4734641257(847346412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ldtoyd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Старотойде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Старотойденского сельского поселения Аннинского муниципального района в 2022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Старотойденского сельского поселения за 202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8880" y="1071720"/>
          <a:ext cx="5381640" cy="1749240"/>
        </p:xfrm>
        <a:graphic>
          <a:graphicData uri="http://schemas.openxmlformats.org/drawingml/2006/table">
            <a:tbl>
              <a:tblPr/>
              <a:tblGrid>
                <a:gridCol w="504720"/>
                <a:gridCol w="1219320"/>
                <a:gridCol w="1218960"/>
                <a:gridCol w="1219320"/>
                <a:gridCol w="1219320"/>
              </a:tblGrid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 705,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 729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 583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 607,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 122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 122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 089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 089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616,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640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7" descr=""/>
          <p:cNvPicPr/>
          <p:nvPr/>
        </p:nvPicPr>
        <p:blipFill>
          <a:blip r:embed="rId2"/>
          <a:stretch/>
        </p:blipFill>
        <p:spPr>
          <a:xfrm>
            <a:off x="1920960" y="3279600"/>
            <a:ext cx="5533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2920" y="3571920"/>
          <a:ext cx="8858160" cy="2914560"/>
        </p:xfrm>
        <a:graphic>
          <a:graphicData uri="http://schemas.openxmlformats.org/drawingml/2006/table">
            <a:tbl>
              <a:tblPr/>
              <a:tblGrid>
                <a:gridCol w="3890880"/>
                <a:gridCol w="1655640"/>
                <a:gridCol w="1656000"/>
                <a:gridCol w="1655640"/>
              </a:tblGrid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2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2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90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90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7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72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Старотойденского сельского поселения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stToyda</cp:lastModifiedBy>
  <dcterms:modified xsi:type="dcterms:W3CDTF">2024-06-20T11:18:02Z</dcterms:modified>
  <cp:revision>80</cp:revision>
  <dc:subject/>
  <dc:title>Слайд 1</dc:title>
</cp:coreProperties>
</file>